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BAD-6524-46FC-A16A-BA4D6BDF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6A6-31DF-413E-9A85-5D1BE4E1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423-A9DF-476F-B26A-BEA36FDF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5CF-7C96-4330-BA0B-29D10A8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771C-E1D2-482B-B9F8-254B0460C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D6DE1-C918-4CEF-A963-94539909E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6BBCE-B016-47AD-B85C-8B3C7DE73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7F12D-A321-4919-9A82-2035D4DF93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DA21-D48F-48E8-BAC9-9F7E551892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7E12-B7A0-4D97-9FE3-9E67521EF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8CB5-15FC-4B20-BDC6-7D3844029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5E7-4725-4A22-B1A3-0B3DE13C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6AC50-877A-478C-A9E9-3F758EB24B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67B57-A9AF-4C21-AB51-6ECE68F72E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59F5-24F4-4E92-9EC9-B770058CD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76D41-1E2E-45AD-8208-D4A954D88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50CCC-E7ED-4475-9FE4-09AE94EBF9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377-1B7A-495B-9A8B-B21BE30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6FF-6C10-485F-A59D-F956BBD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243-362B-431D-846B-0BB41808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762-5ACC-480E-B99F-D553F367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BBF-BE52-4209-8399-F39720F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448-63E1-429C-85C2-AAF59F1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A8F-A9E9-4B02-9E5A-643CF55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6FC5-EC5D-454C-AAF5-3F5DD0E484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AB7-DC82-4ECB-82DB-78365F5AA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358-178C-4C78-9F36-E3A607B532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7B3EE2C-70F0-45E8-AF37-5C680353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539F3E3-2362-4BA7-87CE-741BF59D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lnTo>
                  <a:pt x="0" y="17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1E59B24-96D5-425B-BFEE-7AF9B6FA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CCBF5C1-0DA3-43DD-AF35-FC7E5139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0316FA2-C1BE-49BB-91D1-AA99C5F4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A86AFF4-83DA-476A-BDF8-6B3C8B02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1307501-E8C8-45C3-8915-8CD77A6C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104D097-E0CB-48E9-8F6A-05F501117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FF06C5D-90E2-4FB9-B31B-DD5B71C1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D0E017D-1543-4F98-B607-7F3020C7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6E34CAA-3B17-45B2-A0CA-E159A0BD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53FE56D-D449-4D8E-8B39-C793F736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D2A7569-4B88-4968-AA19-70DF3DBE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9B405A6-7E1A-4DAB-A4D3-325A0514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1EF563B-58AB-461B-A054-BA40CF04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71561EE-74A3-44D7-ADF8-51C8CB17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E9411EE-E04A-4283-9F6E-B1A2A411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6F8FCD6-3D00-4EE8-A941-23316A8A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E2AFA4A-2EA3-4995-A794-94E005BE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FF81136-2471-4A2E-8781-1C40CDB8E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D337B00-8B36-4D54-9025-32B32CE6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0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A282871-9F45-44A4-8D34-20FBB4E07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DB9719F-2A73-4430-A8FB-DE67E3AE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0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779E629-2014-4274-9FEB-D476048D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D934CE0-BD35-43F3-A5C1-DE656B2C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B1EAB19-7941-4FDC-9B3F-51DF82B7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B226D8F-3F08-4FD5-877C-9F285F2F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0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A87D96D-F13F-4B6E-957B-5A63C853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74BA483-1187-45C1-B1A3-0793ABBBF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E9EF951-BCFB-48C0-B94A-966E992A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45AD5A9-518E-44B1-9FD7-BD129E12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C37D8FB-AF50-496D-9A18-C541D86A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D1AA2CF-6ECD-4015-8093-EDEA2A93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Peter Small</cp:lastModifiedBy>
  <dcterms:modified xsi:type="dcterms:W3CDTF">2013-04-03T11:38:31Z</dcterms:modified>
  <cp:revision>263</cp:revision>
  <dc:subject>McConnell-Brue Economics</dc:subject>
  <dc:title>Chapter 18</dc:title>
</cp:coreProperties>
</file>