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B3A-773D-47F4-ADAA-53FE7D10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1A1-C5B3-4253-A14A-6475CDB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CED-7D72-4A52-9927-451D30B8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AC8-8C5F-4EAC-91C5-FF20F84D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5100-9474-4842-974B-BA770B7E9D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10C2-C946-4B43-AFE9-35848551A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4AA94-8A51-47C9-BC13-7CC6750C8E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B5833-F327-41D3-A7E8-B2D221C18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AECB-0649-44A8-A33A-8B6C2494E7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1635A-D43E-4A3E-9E97-22AC69487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6246B-43CF-45E7-8C28-0888320B9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F96-619A-4F2F-9E54-9E54409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8A914-8FC6-418A-90A5-3260E8DF4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A572E-1EDC-410F-A247-E06EE90A5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7A0FF-AD12-4143-96B5-573CAAC8C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920E7-1F36-404C-B671-8E2C9C4D5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2527-3FC3-4402-9FED-A3F2BA207F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8EB-8950-4AF2-A050-B39587B3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FB1-53E3-4C30-A146-B0665AF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476-5461-4117-9B28-DCC4C85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33D-EFE5-454B-8B9B-78ABE4C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AF5-F590-4CCD-A5CD-CFBCF33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EB2-4975-4C1D-8269-05B6503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477-ACD4-43AE-A1D5-99BF6DB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2FB6-0ADD-4C30-92FB-AEF3FB94F9F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FDC-7577-4D21-AF6F-474B687C7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9738-FCC4-4194-811C-E50D8597F4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7193336-CEF0-4780-81A3-CC3FEF21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21BD18E-51D1-48A9-A680-5CE18B36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lnTo>
                  <a:pt x="0" y="17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B39240-8485-494D-9DD6-F3F41269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88C8364-9A6E-40A4-85E7-2121D1F6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00E8DC8-B628-46F7-86AA-2D0311D6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FAE80E4-48E4-41A7-BBA8-2950B0A7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4B961B7-0C98-46DB-8366-56652AC3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61485B6-4644-4DA4-A6B1-58CEB3BF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1583639-969E-4EA4-A933-2A3B814C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09245D5-5F13-412E-A237-E4D8A5C1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C148554-46E2-4B9C-8575-805F41E4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0E72DB9-2C55-46F7-B846-29F74776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1C0D8B0-738A-4539-9F78-0FFF884A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DC13562-B69C-4195-8BD2-257AA21E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31E2F17-4484-4BE0-8354-F4856558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36E01B7-B043-4E08-874D-06B35E8D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F1BE0B5-6A54-4BCE-8797-B2F73B37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0F6D024-F4B1-4906-B3A4-D44856C2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FD13515-C884-48B6-8B55-D1C395F4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1CD4A44-AC95-495F-9DA7-E17D5359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AC452F7-9ABB-463B-8FAB-D3833AB9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0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8E43F41-A922-4AA4-ABEB-2FB02AA2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6226C7A-AF42-42D5-9EA8-46A21B29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0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53762A4-1BF7-4A26-9525-D84D5B13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9EE4E3E-A862-4993-9745-F8D42413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6C24035-2611-435E-9DF5-28782827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340D244-0DD6-4CE0-B0E0-EDC0BAB1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0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4252398-C7BB-464E-A431-D03D6953F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06C2D09-1AA9-4188-A84F-543F5A96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E9763A5-2686-476C-B48C-A80B7F15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C190A71-36C1-4A3B-873E-07B71978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B8044E1-7EBE-41DD-A3C6-8166839E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97297A8-60CA-46E2-A6C7-EFC5D96A1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Peter Small</cp:lastModifiedBy>
  <dcterms:modified xsi:type="dcterms:W3CDTF">2013-04-03T11:38:31Z</dcterms:modified>
  <cp:revision>263</cp:revision>
  <dc:subject>McConnell-Brue Economics</dc:subject>
  <dc:title>Chapter 18</dc:title>
</cp:coreProperties>
</file>